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AF87-1660-4C81-ACE9-7EBC37DF0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82CE-8AC8-4AB3-97C1-6128EFAA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01B1-87D8-4856-BE32-FE8CE1C2C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2F70-E6C0-437F-A09F-58A368754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C270-E4F6-4871-A81F-3666C7BC4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6AEE-ACBE-4EF9-9B40-9AEA7ACF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1770-9D32-422C-932C-CE3CCD45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941A-C39F-4A3B-89D0-AC7F1756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F7C3-A902-4EA6-A0CD-937DA765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A438-C3F8-4852-A0A3-08A1EBFD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10D2-00D7-4550-85EE-E2025019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19E1-5596-4110-BB02-DEC0194C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2912-3EB0-46FD-9FC5-9C6C0A0A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F277-C4EB-48B1-8DE1-01467902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8E7C-E195-4E78-9C10-37D35E0E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3E9D-B1F1-47B0-BD8F-5CBFB290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7690-70AC-4394-A00C-60FD0437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D8157-7459-496D-AA38-A7D8DD5A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FD18E-0805-4A5F-B9C1-BB5347E0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941CA-CFF8-4136-95D0-1603CBB3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A001D-096F-40E5-B86D-5643FDF4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40A12-83A2-459F-ABDD-CC8212F8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A6EE-BA08-44BC-BCB2-AFC8ADFE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B6133-5C6B-4902-A5ED-2B2F3DAF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96BF4-F968-4520-A8D0-D855E6A5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91FB1-AC6B-492C-B2E1-71E85751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AE685-3B43-4620-AE00-874D7B65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776B3-C7EE-4E46-A7E4-8ADA979D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928C6-A7DA-4DF1-B972-B1370330B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086BA-4340-41BF-B4A1-72A1D3D3B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1E4F9-3A79-4412-972B-0E54BCC5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B8672-261F-47EC-821A-A9034F00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97465-B986-41A6-A0CE-327E317A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B342-8156-4B31-984E-941E2AE4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12C07-9FF7-4468-BF3E-BAC0B0EB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58E9F-DD84-40C6-801E-D387FFE5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66502-6753-446C-9C9F-858E1CE7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0DCC4-D24A-4D6D-9364-83B5C9C8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74187-527E-4A0F-8EEA-72377D7E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E75FC-5D78-4F25-B0D0-C68AC56B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18A55-44F3-4F4C-A56A-BCEC545D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98398-ABD7-4424-997C-6689F0C03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F54D8-8569-454D-9ADC-9CB19C271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79059-C683-4B2C-918B-DDFE26C3B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5A83-A101-4F0A-923A-EC85344C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CD867-97CB-451A-B031-419C66B8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5E1A5-A1AC-44E2-ACCF-CD7F0C6D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51B15-720E-429A-A830-241EB8C6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9E351-FD9A-4C10-A396-0F0ABF60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A6309-F607-41F1-A1E8-1F11D95F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34F1E-4354-4D36-9648-4DE0EDEE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7961E-E4CA-40B2-B977-CABFDA0A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FEE97-7FF5-43CC-BD90-48C20371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8D2F4-6CB4-4778-AEAA-E397CA68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10D82-6B46-486D-94D7-346B0713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130B-B207-4875-A985-7E356541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6E118-83F2-4C57-8BFF-A5485D1B6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FEB29-CC87-44C2-8205-8AEEF7851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6E6E0-659C-4E1E-82B4-3ED48989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0F04E-95A8-4560-8C80-A64D3A9B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95CEA-6556-4316-895D-CBBE0236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D4BE1-DCB2-45B9-98DD-F1EEE69D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D6484-9DE3-4D40-8DC6-573215FB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33FB4-FD0E-4ADE-B81C-C770CAA8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B8E10-F154-4B4F-8E7F-9875ECF0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BD1FA-8E72-456D-9E30-69456174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27A7-2F53-4412-BD15-801291D0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4EE9A-DD27-4E0D-B845-16F1B10F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F2292-378F-4108-81A8-5CF1E26C8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05BF2-8CFE-4192-B85D-EB4932497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1A485-93AA-4A97-9B10-B95BD072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2FC38-3A9E-4077-9FD8-D1951FB8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45EB2-24E6-4A98-B632-DF6D8408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4E345-0163-46E3-8851-367DFF00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763D7-C542-4FAE-B214-D0ABB0FF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20B46-026D-45B1-9555-3C5AE75C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BF8B2-D254-4F2E-9550-42D47BE4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026F-8E3C-406F-9C5A-942C6333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770D9-C352-4C77-A038-93E45FD5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7B897-E2DB-4972-BA13-0B4607F7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B3031-EBC8-4A92-A8B2-2DA5BF93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15983-4833-4E44-8C6A-8AE69892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E9052-85F1-4175-9E6A-01674D3DD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0ED7-5460-4146-BD6C-32E0C7A5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FCA1-2E26-4CDE-AE80-A75AD901340D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BDFF-B205-4C6B-8855-0EFCA38B4E2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5133-4D08-4A90-B303-84F3F72D8CFA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7816-DC20-4F31-9152-77A334DF591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082A-AC86-4025-9D26-E5D32E12B17B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2FCA-3930-43AD-95E4-B5EF7AEE340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BE06-5C9E-4DFE-BEEA-152600F9F50A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F457-AEE7-41A4-8F35-EF47D694433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E2F0-55C7-412B-847C-72F71833484A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F8B8-7687-424F-9B24-C2B037E57A3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E03B-9071-4F68-98CC-ACF2BA6230DD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588E-6DD3-485A-81DC-01A24B83B52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E4AF-0468-48D6-B2B6-FCD74FCEA5C9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F90F-EAD7-4CF1-849E-6D69CA4F0E3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8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3D53-CF9C-4B0A-BEA7-05F6D633E461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10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16E2-D9A3-49BF-895F-5B2E853B4D5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Rectangle 6" descr=""/>
          <p:cNvPicPr/>
          <p:nvPr/>
        </p:nvPicPr>
        <p:blipFill>
          <a:blip r:embed="rId1"/>
          <a:stretch/>
        </p:blipFill>
        <p:spPr>
          <a:xfrm>
            <a:off x="689040" y="4243320"/>
            <a:ext cx="7997760" cy="20782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orbel"/>
              </a:rPr>
              <a:t>проф др Светлана милетић Дракулић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Date Placeholder 1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3031-D0A4-4560-A0EC-758656375ECB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BC28-775B-42B3-A7DC-C0F487EC3B8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7" name="Picture 2" descr="caudaequina"/>
          <p:cNvPicPr/>
          <p:nvPr/>
        </p:nvPicPr>
        <p:blipFill>
          <a:blip r:embed="rId1"/>
          <a:stretch/>
        </p:blipFill>
        <p:spPr>
          <a:xfrm>
            <a:off x="2438280" y="66600"/>
            <a:ext cx="498816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1eeff"/>
                </a:solidFill>
                <a:latin typeface="Consolas"/>
              </a:rPr>
              <a:t>Синдроми оштећења кичмене мождине 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Corbel"/>
              </a:rPr>
              <a:t>Нагло настао пресек кичмене мождине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Corbel"/>
              </a:rPr>
              <a:t>1.  фаза  спиналног шока, око 3-4 седмице), угашене функције кичмене мождине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Corbel"/>
              </a:rPr>
              <a:t>Угашен сензибилитет за све квалитете</a:t>
            </a:r>
            <a:r>
              <a:rPr b="1" lang="sr-CS" sz="1800" spc="-1" strike="noStrike">
                <a:solidFill>
                  <a:srgbClr val="ffffff"/>
                </a:solidFill>
                <a:latin typeface="Corbel"/>
              </a:rPr>
              <a:t> од повређеног сегмента наниже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Corbel"/>
              </a:rPr>
              <a:t>млитава одузетост испод лезије ,атонија, угашени рефлекси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Corbel"/>
              </a:rPr>
              <a:t>Ретенција мокраће, бешика проширена, атонична, паралитички илеус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rbel"/>
              </a:rPr>
              <a:t>2. друга фаза, успостављају се функције к. мождине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Corbel"/>
              </a:rPr>
              <a:t>Појачани мишићни рефлекси, повишен тонус, одузетих екстремитета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Corbel"/>
              </a:rPr>
              <a:t>Рефлексна неурогена бешика-аутоматско пражњење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Corbel"/>
              </a:rPr>
              <a:t>масивни рефлексни одговор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6F3E-27F2-4C4B-A740-F1890985E9E1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292C-9321-494B-8E91-2442D02AA21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7300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eeff"/>
                </a:solidFill>
                <a:latin typeface="Consolas"/>
              </a:rPr>
              <a:t>Brown-Sequardov sindrom</a:t>
            </a:r>
            <a:br>
              <a:rPr sz="2800"/>
            </a:br>
            <a:r>
              <a:rPr b="0" lang="en-US" sz="2800" spc="-1" strike="noStrike">
                <a:solidFill>
                  <a:srgbClr val="c1eeff"/>
                </a:solidFill>
                <a:latin typeface="Consolas"/>
              </a:rPr>
              <a:t>(хемисекција-пресек половине)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На страни лезиј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1. Слабост екстремитет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2. О</a:t>
            </a:r>
            <a:r>
              <a:rPr b="1" lang="sr-CS" sz="2400" spc="-1" strike="noStrike">
                <a:solidFill>
                  <a:srgbClr val="ffffff"/>
                </a:solidFill>
                <a:latin typeface="Corbel"/>
              </a:rPr>
              <a:t>штећење</a:t>
            </a: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 дубоког сензибилитет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     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492D-34A4-492D-84D5-47B98E8C3198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8C51-AC7F-4853-85D4-4D74FD6ABD4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5410080" y="1600200"/>
            <a:ext cx="2971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На контра стра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О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штећењ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спино-таламицки пу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не ос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а бол, топло, хладно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Date Placeholder 1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645D-AFC5-4D7B-858B-BEA3ED2866D8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E799-AF44-45C7-9FAB-EA82890BA9B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9" name="Picture 2" descr="spinalcord23"/>
          <p:cNvPicPr/>
          <p:nvPr/>
        </p:nvPicPr>
        <p:blipFill>
          <a:blip r:embed="rId1"/>
          <a:stretch/>
        </p:blipFill>
        <p:spPr>
          <a:xfrm>
            <a:off x="2104920" y="100080"/>
            <a:ext cx="493416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c1eeff"/>
                </a:solidFill>
                <a:latin typeface="Consolas"/>
              </a:rPr>
              <a:t>предњи синдром кичмене мождин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914040" y="1784520"/>
            <a:ext cx="603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рок-синдром а спиналис ант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тична одузетост (обострани пирамидни пут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висини испод лезије постоји дисоцијација сензибилитета (губитак за бол, т 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тећење сфинктера и импотенцијом (обострана вазомоторна парализа испод места оштећењ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FBBE-6B01-40F3-A9F9-6D9EBA9ED666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DD78-B620-47E5-8BA3-A297C916CCB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4" name="Picture 5" descr=""/>
          <p:cNvPicPr/>
          <p:nvPr/>
        </p:nvPicPr>
        <p:blipFill>
          <a:blip r:embed="rId1"/>
          <a:stretch/>
        </p:blipFill>
        <p:spPr>
          <a:xfrm>
            <a:off x="6748560" y="969840"/>
            <a:ext cx="2962080" cy="4353120"/>
          </a:xfrm>
          <a:prstGeom prst="rect">
            <a:avLst/>
          </a:prstGeom>
          <a:ln w="0">
            <a:noFill/>
          </a:ln>
        </p:spPr>
      </p:pic>
      <p:sp>
        <p:nvSpPr>
          <p:cNvPr id="425" name="Arrow: Right 6"/>
          <p:cNvSpPr/>
          <p:nvPr/>
        </p:nvSpPr>
        <p:spPr>
          <a:xfrm>
            <a:off x="6084720" y="3284640"/>
            <a:ext cx="574920" cy="144360"/>
          </a:xfrm>
          <a:prstGeom prst="rightArrow">
            <a:avLst>
              <a:gd name="adj1" fmla="val 50000"/>
              <a:gd name="adj2" fmla="val 50058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c1eeff"/>
                </a:solidFill>
                <a:latin typeface="Consolas"/>
              </a:rPr>
              <a:t>оштећење средњих делова</a:t>
            </a:r>
            <a:br>
              <a:rPr sz="4000"/>
            </a:br>
            <a:r>
              <a:rPr b="0" lang="sr-RS" sz="4000" spc="-1" strike="noStrike">
                <a:solidFill>
                  <a:srgbClr val="c1eeff"/>
                </a:solidFill>
                <a:latin typeface="Consolas"/>
              </a:rPr>
              <a:t>сирингомијелија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оштећење спиноталамичког(боли т) у одговарајућим дерматомом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B2C7-7D2F-4EB1-9F86-26FC6E378411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6168-05D3-4296-B583-8D3C8A86273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0" name="Picture 5" descr=""/>
          <p:cNvPicPr/>
          <p:nvPr/>
        </p:nvPicPr>
        <p:blipFill>
          <a:blip r:embed="rId1"/>
          <a:stretch/>
        </p:blipFill>
        <p:spPr>
          <a:xfrm>
            <a:off x="6105600" y="2852640"/>
            <a:ext cx="2962080" cy="4353120"/>
          </a:xfrm>
          <a:prstGeom prst="rect">
            <a:avLst/>
          </a:prstGeom>
          <a:ln w="0">
            <a:noFill/>
          </a:ln>
        </p:spPr>
      </p:pic>
      <p:sp>
        <p:nvSpPr>
          <p:cNvPr id="431" name="Arrow: Right 6"/>
          <p:cNvSpPr/>
          <p:nvPr/>
        </p:nvSpPr>
        <p:spPr>
          <a:xfrm flipV="1">
            <a:off x="5011560" y="3677400"/>
            <a:ext cx="719280" cy="35748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iringomyelia</a:t>
            </a:r>
            <a:br>
              <a:rPr sz="4000"/>
            </a:b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(централна </a:t>
            </a:r>
            <a:r>
              <a:rPr b="0" lang="sr-CS" sz="4000" spc="-1" strike="noStrike">
                <a:solidFill>
                  <a:srgbClr val="c1eeff"/>
                </a:solidFill>
                <a:latin typeface="Consolas"/>
              </a:rPr>
              <a:t>ш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упљина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040" y="1784520"/>
            <a:ext cx="5025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кализована Ц6-8, Тх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рок:</a:t>
            </a:r>
            <a:r>
              <a:rPr b="0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дјена, интрамедуларних тумор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ецује спино-талами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 који се укр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не осе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ју бол, тепературу на рукама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СИРИНГОМИЈЕЛИТИ</a:t>
            </a:r>
            <a:r>
              <a:rPr b="0" lang="sr-RS" sz="20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Ч</a:t>
            </a:r>
            <a:r>
              <a:rPr b="0" lang="en-US" sz="20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КА ДИСОЦИЈАЦИЈА</a:t>
            </a:r>
            <a:r>
              <a:rPr b="0" lang="sr-RS" sz="20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 сензибилитет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8ECE-139F-4DB5-83D7-E2B68EA26C2D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F334-880E-4D1A-9900-2C01BBB2230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6" name="Picture 2" descr=""/>
          <p:cNvPicPr/>
          <p:nvPr/>
        </p:nvPicPr>
        <p:blipFill>
          <a:blip r:embed="rId1"/>
          <a:stretch/>
        </p:blipFill>
        <p:spPr>
          <a:xfrm>
            <a:off x="6300720" y="1784520"/>
            <a:ext cx="284328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iringomyelia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упљина вр</a:t>
            </a: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и притисак 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На предње рогове-ПМН-у миотомима на ГЕ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На пирамидни пут на ногам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На сензитивне путеве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Сирингобулбиа (о</a:t>
            </a: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штећује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сензитивна једра  н. тригеминуса </a:t>
            </a: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сирогомијел. дисоцијације с</a:t>
            </a: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е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нзибилитета на лицу-Зелдерови прстенови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9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83A4-EC6F-47F9-AAE3-FEAC351CCC21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8BE0-B007-48C8-8F4A-9C562DABC48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c1eeff"/>
                </a:solidFill>
                <a:latin typeface="Consolas"/>
              </a:rPr>
              <a:t>симптоми оштећења задњих фуникула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тећење задњих фуникула(табес дорсалис, фуникуларна мијелоза, мултипла склероза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убитак дубоког сензибилитета(лак додир, тактилну дискриминацију, добоки положајни,  вибрациони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дром лавабоа, прсти који свирају клавир, Ромберг са затвореним очим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3A34-DD18-47C4-A83D-B218513EC6A6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119B-DCEA-4AB3-A629-7CD06E7EFD5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c1eeff"/>
                </a:solidFill>
                <a:latin typeface="Consolas"/>
              </a:rPr>
              <a:t>узроци оштећења кичмене мождин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исхемички инфаркти, крварењ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запаљенске лезије(мијелитис, епидурални апцес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тумори кичмене мождин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мултипла склероза, васкулитис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протрузија дискус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спондилоз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AF29-BA8B-4CB1-A068-0AE0E3F3A37C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B39A-2D3C-4B5C-8E3E-6F6538BDB54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B258-D95B-40F5-84D1-CB988743F1A4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0789-732B-41D0-AE2C-C30661129FB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6" name="Picture 4" descr="N9_15S"/>
          <p:cNvPicPr/>
          <p:nvPr/>
        </p:nvPicPr>
        <p:blipFill>
          <a:blip r:embed="rId1"/>
          <a:stretch/>
        </p:blipFill>
        <p:spPr>
          <a:xfrm>
            <a:off x="1547640" y="907920"/>
            <a:ext cx="6480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c1eeff"/>
                </a:solidFill>
                <a:latin typeface="Consolas"/>
              </a:rPr>
              <a:t>дијагности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нуклеарна магнетна резонанца НМР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преглед ликвор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МСЦТ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ЕМНГ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Биопсиј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98A7-49B0-4ACA-9CCC-96DA4601B3FC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9D22-B589-480A-B99D-37B1E467CFE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3" name="Picture 3" descr="spinalcord36"/>
          <p:cNvPicPr/>
          <p:nvPr/>
        </p:nvPicPr>
        <p:blipFill>
          <a:blip r:embed="rId1"/>
          <a:stretch/>
        </p:blipFill>
        <p:spPr>
          <a:xfrm>
            <a:off x="6588000" y="2349360"/>
            <a:ext cx="18590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Date Placeholder 1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BA6C-0340-48ED-96AF-36F992CB4132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B39F-FE0C-4231-BC49-D7481B9EB22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9" name="Object 2"/>
          <p:cNvGraphicFramePr/>
          <p:nvPr/>
        </p:nvGraphicFramePr>
        <p:xfrm>
          <a:off x="1143000" y="533520"/>
          <a:ext cx="7238880" cy="5562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33520"/>
                    <a:ext cx="723888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1DB6-EAFF-4889-B44A-90EE8813F267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5B71-DD95-4094-921D-51692B13D28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3" name="Picture 2" descr="Untitled-11"/>
          <p:cNvPicPr/>
          <p:nvPr/>
        </p:nvPicPr>
        <p:blipFill>
          <a:blip r:embed="rId1"/>
          <a:stretch/>
        </p:blipFill>
        <p:spPr>
          <a:xfrm>
            <a:off x="3851280" y="0"/>
            <a:ext cx="362124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3"/>
          <p:cNvSpPr/>
          <p:nvPr/>
        </p:nvSpPr>
        <p:spPr>
          <a:xfrm>
            <a:off x="400680" y="549360"/>
            <a:ext cx="3521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Spinotalamički put (Eding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за површински сензибилит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Бол, температура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сексуалне сензациј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1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8CFF-122E-4CF6-9935-29D55558C8AA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8AD0-60ED-41EB-9B6E-9B3C79278D2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7" name="Picture 2" descr="Untitled-12"/>
          <p:cNvPicPr/>
          <p:nvPr/>
        </p:nvPicPr>
        <p:blipFill>
          <a:blip r:embed="rId1"/>
          <a:stretch/>
        </p:blipFill>
        <p:spPr>
          <a:xfrm>
            <a:off x="3851280" y="0"/>
            <a:ext cx="3978360" cy="690876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3"/>
          <p:cNvSpPr/>
          <p:nvPr/>
        </p:nvSpPr>
        <p:spPr>
          <a:xfrm>
            <a:off x="393840" y="476280"/>
            <a:ext cx="414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Medijalni lemnisk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(Fasciculus cuneatus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Fasciculus gracilli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За дубоки сензибилит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(вибрација, пасивни покрет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зглобна и дискриминација две тачке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1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4C28-4579-48EA-9684-BE106901135D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0793-F791-4663-810A-13F09B2CF90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1" name="Picture 2" descr="spinalcord12"/>
          <p:cNvPicPr/>
          <p:nvPr/>
        </p:nvPicPr>
        <p:blipFill>
          <a:blip r:embed="rId1"/>
          <a:srcRect l="0" t="22146" r="0" b="0"/>
          <a:stretch/>
        </p:blipFill>
        <p:spPr>
          <a:xfrm>
            <a:off x="0" y="152280"/>
            <a:ext cx="5105520" cy="64296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spinalcord13"/>
          <p:cNvPicPr/>
          <p:nvPr/>
        </p:nvPicPr>
        <p:blipFill>
          <a:blip r:embed="rId2"/>
          <a:stretch/>
        </p:blipFill>
        <p:spPr>
          <a:xfrm>
            <a:off x="4714920" y="380880"/>
            <a:ext cx="44290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c1eeff"/>
                </a:solidFill>
                <a:latin typeface="Consolas"/>
              </a:rPr>
              <a:t>висинска локализација лезиј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пастична квадриплегија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ниво сензибилитета Ц1-Ц4-лезија изнад вратне интумесценциј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амиотрофични синдром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литава одузетост руку, спастична одузетост ногу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тична параплегија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лезија торакалне кичме између интумесценциј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млитава параплегија-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зија лумбалне интумесценцј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6B5D-78A6-4002-AEA4-00837066F2C4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BD5D-E96C-45EC-84F8-AFAE191843C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8803"/>
                </a:solidFill>
                <a:latin typeface="YUDutchR"/>
              </a:rPr>
              <a:t>Sindrom conus medularis-a i caudae equinae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85440" y="7617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синдром конуса почиње нагло са билатералном презентацијом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спонтани бол редак и благ у перинеуму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мишићне слабости </a:t>
            </a:r>
            <a:r>
              <a:rPr b="1" lang="sl-SI" sz="1900" spc="-1" strike="noStrike">
                <a:solidFill>
                  <a:srgbClr val="ffffff"/>
                </a:solidFill>
                <a:latin typeface="Corbel"/>
              </a:rPr>
              <a:t>одсутне или </a:t>
            </a: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незна</a:t>
            </a:r>
            <a:r>
              <a:rPr b="1" lang="sl-SI" sz="1900" spc="-1" strike="noStrike">
                <a:solidFill>
                  <a:srgbClr val="ffffff"/>
                </a:solidFill>
                <a:latin typeface="Corbel"/>
              </a:rPr>
              <a:t>тне</a:t>
            </a: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, симетричне, ретке фасцикулације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симетрична дисоцијација сензибилитета, губитак  за бол и температурне дражи а очуван за додир у перианогениталној, седластој дистрибуцији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пателарни и ахилови рефлекси очувани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инцонтинентио уринае ет алви од самог почетка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оштећена мушка сексуална функција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647960" y="68544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rbel"/>
              </a:rPr>
              <a:t>синдром кауде еквине почиње постепено и једнострано, а затим асиметрично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rbel"/>
              </a:rPr>
              <a:t>спонтани бол је јак, радикуларни и асиметричан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rbel"/>
              </a:rPr>
              <a:t>мишићне парализе су тешке, асиметричне, фасцикулације уочљиве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rbel"/>
              </a:rPr>
              <a:t>асиметричан испад површног сензибилитета седласте дистрибуције, без дисоцијације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rbel"/>
              </a:rPr>
              <a:t>пателарни и ахилови рефлекси могу бити угашени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rbel"/>
              </a:rPr>
              <a:t>поремећај функције сфинктера се јавља касније и у блажој мери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rbel"/>
              </a:rPr>
              <a:t>поремећај мушке сексуалне функције блаже изражен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Date Placeholder 4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AFD8-FAE5-4DA4-B5A9-217026AA4DD7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Slide Number Placeholder 6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AB65-6FD2-44EF-9495-0ED295F6A75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Date Placeholder 1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9A68-E36A-42E8-BFE9-26B518D251F5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1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339A-1FC1-404C-A58F-D09CF2BCFBF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4" name="Picture 2" descr="spinalcord22"/>
          <p:cNvPicPr/>
          <p:nvPr/>
        </p:nvPicPr>
        <p:blipFill>
          <a:blip r:embed="rId1"/>
          <a:stretch/>
        </p:blipFill>
        <p:spPr>
          <a:xfrm>
            <a:off x="2014560" y="185760"/>
            <a:ext cx="511488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nfo</dc:creator>
  <dc:description/>
  <dc:language>en-US</dc:language>
  <cp:lastModifiedBy>User</cp:lastModifiedBy>
  <dcterms:modified xsi:type="dcterms:W3CDTF">2020-09-29T10:13:20Z</dcterms:modified>
  <cp:revision>94</cp:revision>
  <dc:subject/>
  <dc:title>PowerPoint Presentation</dc:title>
</cp:coreProperties>
</file>